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EC684-5527-427F-89F6-A724B04AC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EDDE1-7186-42CD-9DC4-7F8E898CC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BCE9C-7C43-40A7-B892-9F33D818C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11B95-9CA5-44C1-9C16-657516486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847A1-A073-4445-9464-0612B36E7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71DD9-0272-4D07-B4B6-693742E98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66D4F-4295-4EAC-AFBD-CCA7413B1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7209A-FA2F-4061-9574-95527255D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7C6B9-E578-4EE8-A728-15AAAC88A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3C3D7-4D0B-4B22-83E7-0479310CA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83E37-E6CB-4EA1-AA1A-E71EACDE9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1784D-F0A3-4D6D-A5AE-F24F25E3C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D6C00-63BE-4514-B5D1-9423D2F33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8A9C4-35C1-4307-A010-3517997D3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D61EC-3DBB-4ECA-964B-46EA64C41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D1B8C-57D5-471B-B9DE-96123BEF0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E6DA6-34F0-4BDD-8887-63F9747A6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6D5E2-0CBD-4404-AB6A-3A85EBCBC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7DF0B-E113-4AF5-9CBE-F3E598A11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278BD-6F7B-45C3-83FB-F64A609F8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5BBEB-2AE1-474E-AEB1-53A3959F9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72A93-1866-4A6E-9DDF-73FDDB0A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AABE-2ED9-4A82-9180-DE6E183EB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9199-CA64-491C-9668-98DADA65E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AB9A2-6277-48F7-991F-6BEDD693DD6F}" type="datetime">
              <a:rPr b="0" lang="en-US" sz="1200" spc="-1" strike="noStrike">
                <a:solidFill>
                  <a:srgbClr val="ffffff"/>
                </a:solidFill>
                <a:latin typeface="News Gothic MT"/>
              </a:rPr>
              <a:t>07/29/26</a:t>
            </a:fld>
            <a:endParaRPr b="0" lang="en-US" sz="1200" spc="-1" strike="noStrike">
              <a:solidFill>
                <a:srgbClr val="000000"/>
              </a:solidFill>
              <a:latin typeface="News Gothic MT"/>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2282E-228B-4811-8F42-CF0C4504A0D6}"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44E2C-7918-4606-B022-F8EB929DDCBD}" type="datetime">
              <a:rPr b="0" lang="en-US" sz="1200" spc="-1" strike="noStrike">
                <a:solidFill>
                  <a:srgbClr val="ffffff"/>
                </a:solidFill>
                <a:latin typeface="News Gothic MT"/>
              </a:rPr>
              <a:t>07/29/26</a:t>
            </a:fld>
            <a:endParaRPr b="0" lang="en-US" sz="1200" spc="-1" strike="noStrike">
              <a:solidFill>
                <a:srgbClr val="000000"/>
              </a:solidFill>
              <a:latin typeface="News Gothic MT"/>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544D7-CE38-4218-A928-F7F56AE0A5D5}"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rofj.us/25sp/law16/mocktrialrules.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2800" spc="-1" strike="noStrike">
                <a:solidFill>
                  <a:srgbClr val="2c7c9f"/>
                </a:solidFill>
                <a:latin typeface="News Gothic MT"/>
              </a:rPr>
              <a:t>INTRODUCTION OF PHYSICAL EVIDENCE</a:t>
            </a:r>
            <a:br>
              <a:rPr sz="4100"/>
            </a:br>
            <a:endParaRPr b="0" lang="en-US" sz="2800" spc="-1" strike="noStrike">
              <a:solidFill>
                <a:srgbClr val="2c7c9f"/>
              </a:solidFill>
              <a:latin typeface="News Gothic MT"/>
            </a:endParaRPr>
          </a:p>
        </p:txBody>
      </p:sp>
      <p:sp>
        <p:nvSpPr>
          <p:cNvPr id="84" name=""/>
          <p:cNvSpPr txBox="1"/>
          <p:nvPr/>
        </p:nvSpPr>
        <p:spPr>
          <a:xfrm>
            <a:off x="0" y="715680"/>
            <a:ext cx="9144000" cy="6141960"/>
          </a:xfrm>
          <a:prstGeom prst="rect">
            <a:avLst/>
          </a:prstGeom>
          <a:noFill/>
          <a:ln w="0">
            <a:noFill/>
          </a:ln>
        </p:spPr>
        <p:txBody>
          <a:bodyPr anchor="t">
            <a:normAutofit fontScale="98000"/>
          </a:bodyPr>
          <a:p>
            <a:pPr marL="342000" indent="-3420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News Gothic MT"/>
              </a:rPr>
              <a:t>There is a special procedure for introducing evidence during a trial.  Below are the basic  steps to use when introducing a physical object or document into evidence in a court. </a:t>
            </a:r>
            <a:endParaRPr b="0" lang="en-US" sz="2000" spc="-1" strike="noStrike">
              <a:solidFill>
                <a:srgbClr val="595959"/>
              </a:solidFill>
              <a:latin typeface="News Gothic MT"/>
            </a:endParaRPr>
          </a:p>
          <a:p>
            <a:pPr marL="342000" indent="-34200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1. “Your Honor, I ask that this letter be  marked for identification as Plaintiff’s  Exhibit 1.”  After the presiding judge marks it, ask for permission to approach the witness. Show the letter to the opposing attorney. </a:t>
            </a:r>
            <a:endParaRPr b="0" lang="en-US" sz="2000" spc="-1" strike="noStrike">
              <a:solidFill>
                <a:srgbClr val="595959"/>
              </a:solidFill>
              <a:latin typeface="News Gothic MT"/>
            </a:endParaRPr>
          </a:p>
          <a:p>
            <a:pPr marL="342000" indent="-34200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2. Show the letter to the witness whom you are questioning.  “Mr. King, do you recognize this document, which is marked Plaintiff’s Exhibit 1 for identification?”  The witness then explains what  it is (e.g., “yes, this is the letter I received from the defendant, Marilyn Smith.) </a:t>
            </a:r>
            <a:endParaRPr b="0" lang="en-US" sz="2000" spc="-1" strike="noStrike">
              <a:solidFill>
                <a:srgbClr val="595959"/>
              </a:solidFill>
              <a:latin typeface="News Gothic MT"/>
            </a:endParaRPr>
          </a:p>
          <a:p>
            <a:pPr marL="342000" indent="-34200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3. “Your Honor, I offer this letter, marked Plaintiff’s Exhibit 1 for identification, into evidence.”  Offer the letter to the judge for his/her inspection. </a:t>
            </a:r>
            <a:endParaRPr b="0" lang="en-US" sz="2000" spc="-1" strike="noStrike">
              <a:solidFill>
                <a:srgbClr val="595959"/>
              </a:solidFill>
              <a:latin typeface="News Gothic MT"/>
            </a:endParaRPr>
          </a:p>
          <a:p>
            <a:pPr marL="342000" indent="-34200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4. After opposing counsel has an opportunity to object (presiding judge will ask), the judge rules on whether or not the letter may be admitted into evidence. </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Food for Thought</a:t>
            </a:r>
            <a:endParaRPr b="0" lang="en-US" sz="4600" spc="-1" strike="noStrike">
              <a:solidFill>
                <a:srgbClr val="2c7c9f"/>
              </a:solidFill>
              <a:latin typeface="News Gothic MT"/>
            </a:endParaRPr>
          </a:p>
        </p:txBody>
      </p:sp>
      <p:sp>
        <p:nvSpPr>
          <p:cNvPr id="8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s it better trial procedure for the attorney to “tell” the witness what s/he is handing him or to ask him if he can identify it himself? Why?</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Ways to Use Evidence</a:t>
            </a:r>
            <a:endParaRPr b="0" lang="en-US" sz="4600" spc="-1" strike="noStrike">
              <a:solidFill>
                <a:srgbClr val="2c7c9f"/>
              </a:solidFill>
              <a:latin typeface="News Gothic MT"/>
            </a:endParaRPr>
          </a:p>
        </p:txBody>
      </p:sp>
      <p:sp>
        <p:nvSpPr>
          <p:cNvPr id="8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http://profj.us/25sp/law16/mocktrialrules.htm</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ttp://www.youtube.com/watch?v=ZoALgN7F2BE</a:t>
            </a:r>
            <a:endParaRPr b="0" lang="en-US" sz="2400" spc="-1" strike="noStrike">
              <a:solidFill>
                <a:srgbClr val="595959"/>
              </a:solidFill>
              <a:latin typeface="News Gothic MT"/>
            </a:endParaRPr>
          </a:p>
        </p:txBody>
      </p:sp>
      <p:sp>
        <p:nvSpPr>
          <p:cNvPr id="89" name="Title 1"/>
          <p:cNvSpPr/>
          <p:nvPr/>
        </p:nvSpPr>
        <p:spPr>
          <a:xfrm>
            <a:off x="549360" y="2505240"/>
            <a:ext cx="8042040" cy="133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Types of Evidence</a:t>
            </a:r>
            <a:endParaRPr b="0" lang="en-US" sz="4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15:15:39Z</dcterms:created>
  <dc:creator>NYCDOE</dc:creator>
  <dc:description/>
  <dc:language>en-US</dc:language>
  <cp:lastModifiedBy>NYCDOE</cp:lastModifiedBy>
  <dcterms:modified xsi:type="dcterms:W3CDTF">2012-05-07T15:28:15Z</dcterms:modified>
  <cp:revision>1</cp:revision>
  <dc:subject/>
  <dc:title> INTRODUCTION OF PHYSICAL EVIDENCE </dc:title>
</cp:coreProperties>
</file>